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FFCE-4956-4C7D-A7D1-E96AAE21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62A8-D54F-429F-99A6-D3D9209B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0E18-D864-411C-9D91-8D22ECEE4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F5DA-E5A6-462A-89D8-39B50C0D3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6C94-9FEF-460D-A5E1-6835F205C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FE29-AB10-45C3-A8BD-1CFFDA01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4108-0379-4708-BC75-2F251F79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20B9-891B-49E1-AC52-33DCDCC9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89B2-7E4D-4BAA-8E57-6831424F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35B8-ED2A-4633-A750-0055D191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C12D-A91B-4924-9005-F98C6921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376D-E90A-48D9-8BDA-E66FF00C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21CD-D6C3-40DE-BA00-649C2300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97AD-5BA8-411A-8CDD-A491F2CA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FF12-E89A-4BBE-8D69-F7F1BE88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B3AA-C147-4B4F-B9E6-DEE75C60D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9358-53FD-4DEA-A7E4-50291ED98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B71F-8EAD-4D71-984E-0B9B55FB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68CC-E0E4-4E52-856D-F5536FC8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F18B-9F9B-4E04-B071-D1E1D68F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4754-5F41-4757-8E2D-F9267D98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3D58-5222-46C4-A6A4-174E075E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89C3-D841-4A55-A0AC-94E741E4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8D57-084F-49E8-85E5-D68CDFA7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3519-7CF4-4C2C-85A5-45C9DA9584F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F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D147-D09E-4E0C-98B7-B09E10F4087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Exercises 1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2857680" y="12859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42920" y="1789200"/>
            <a:ext cx="864396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Ἰησους λεγει αὐτῃ∙ Εἰμι ἡ ζωη και ἡ εἰρηνη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ι Πετρος λεγει αὐτῳ∙ Εἶ ὁ Χριστος ὁ υἱος του θε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λαμβανω την του θεου βασιλειαν ὡς τεκν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οὐκ ἐστιν θεος νεκρω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το δαιμονιον λεγει∙ Ἰησου, εἶ ὁ ἁγιος του θε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βλεπει θεου τον καινον οὐρανον και την καινην γη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2"/>
          <p:cNvSpPr/>
          <p:nvPr/>
        </p:nvSpPr>
        <p:spPr>
          <a:xfrm>
            <a:off x="214200" y="1343160"/>
            <a:ext cx="807264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Ἀγαπητοι, νομον ἑτερον οὐ διδασκω ἀλλα τον ἀπ’ ἀρχη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ἡ μεγαλη φωνη ἐκ των οὐρανων λεγει∙ Εἶ ὁ υἱος μου [</a:t>
            </a:r>
            <a:r>
              <a:rPr b="0" i="1" lang="en-GB" sz="2300" spc="-1" strike="noStrike">
                <a:solidFill>
                  <a:srgbClr val="ffffff"/>
                </a:solidFill>
                <a:latin typeface="Arial"/>
              </a:rPr>
              <a:t>my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ἀγαπητο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days are evil and evil people do evil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law is just, but it is the Gospel’s moment (tim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ach one has his own hou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hrist is the head of the chur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Exercises 2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"/>
          <p:cNvSpPr/>
          <p:nvPr/>
        </p:nvSpPr>
        <p:spPr>
          <a:xfrm>
            <a:off x="71280" y="1527120"/>
            <a:ext cx="9098280" cy="53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λεγει Ἰησους ἐν τῃ συναγωγῃ∙ Ἡ βασιλεια των οὐρανων οὐκ ἐστιν ἐκ του κοσμο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εἰσιν ψυχαι πολλαι των ἀγαθων και των δικαιων ἐν τῃ οἰκιᾳ του αἰωνιου θεο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ἡ ἀγαπη του θεου ἐστιν ἐν ταις καρδιαις αὐτων δια του Χριστο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ἐστιν αἰωνιος εἰρηνη τοις πιστοι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ὁ θεος ἀγαπη ἐστιν∙ ἀνθρωποι της ἀγαπης ἐν τῳ θεῳ εἰσιν και ὁ θεος ἐν αὐτοις ἐστιν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τοις Ἰουδαιοις τοις ἐν Ἱεροσολυμοις λεγει ὁ Ἰησου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Exercises 3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2857680" y="117000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Exercises 4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71280" y="1405080"/>
            <a:ext cx="914400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εἰ τα του κοσμου ἐργα πονηρα ἐστιν, πως οἱ πιστοι ποιουσι τα δικαια και τα καλα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ἀγουσιν τον τυφλον προς τους Ἰουδαιους ἐν τῳ ἱερῳ τῳ μεγαλ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We are sons of m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You (pl.) are alone in Galile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faithful Jews are teaching the law of pea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es God have a new holy people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Exercises 5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3000240" y="11811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428760" y="1544760"/>
            <a:ext cx="81439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hew 12.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ἀγαθὸς ἄνθρωπος ἐκ τοῦ ἀγαθοῦ θησαυροῦ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reasure box/storeroom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βάλλει ἀγαθά, καὶ ὁ πονηρὸς ἄνθρωπος ἐκ τοῦ πονηροῦ θησαυροῦ ἐκβάλλει πονηρ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428760" y="4106880"/>
            <a:ext cx="81439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 Corinthians 13.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 χάρι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grace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ῦ κυρίου Ἰησοῦ Χριστοῦ καὶ ἡ ἀγάπη τοῦ θεοῦ καὶ ἡ κοινωνία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fellowship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ῦ ἁγίου πνεύματο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spirit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τὰ πάντω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ὑμῶ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you (pl.)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16:03:31Z</dcterms:created>
  <dc:creator>Sarah</dc:creator>
  <dc:description/>
  <dc:language>en-US</dc:language>
  <cp:lastModifiedBy>Sarah</cp:lastModifiedBy>
  <dcterms:modified xsi:type="dcterms:W3CDTF">2009-02-25T20:11:06Z</dcterms:modified>
  <cp:revision>23</cp:revision>
  <dc:subject/>
  <dc:title>Slide 1</dc:title>
</cp:coreProperties>
</file>